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21D-CF76-4911-9254-634EA5C0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232-625C-49D7-81FE-1082BC8F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86B-1B35-4726-B4C0-66718029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1C4-D154-44D6-AC92-10452F34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8F25-F270-4DD7-8DAC-5CC20BF8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2A7E-A1E0-426D-A562-0EBA1EA2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B134-B87C-48B5-BA20-3C305E49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C76C-83A2-41E3-A311-F34BF621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1236-EE85-4D95-A5F7-26D0B66A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F7D8-8EC1-41BC-8DB6-01CCBFFC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9AB1-4612-4FF4-9782-6E0EEBC6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E71-AAC9-433B-8022-9B204525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C348-31F0-4276-8697-D0955832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F525-6468-45FA-875D-33035E36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917C-FD8F-4E3A-8ECF-AB0456D1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9756-4A3F-435A-8B20-CBA92693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7005-E876-4BFD-85B8-4CFA300F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FD8AD-2161-487E-8DFA-67B41F1D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C2B5A-4182-4AD1-92D0-DBD2428D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C3CA7-3855-48F6-9FA2-F634A545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08A61-C207-4D0F-95BB-1FBED6B3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2B5B5-3846-4435-9A5C-1013271D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BB6-B2B6-4712-B1AA-DF383171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5B7B-95E0-40EF-B67E-4929457F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E4FF-446A-4AA9-915E-8A578B43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A7D69-E24F-4BAD-81BB-B0F54AA4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CFAE-D652-4773-8C8B-D6B081D4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30A9-BD65-4CF1-8C9D-D4FBAA49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88741-6C03-4517-88CA-99A1400D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D48BA-358A-49F8-A9B1-5072DB17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38E2C-B588-4186-8AF4-E9FB5927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08374-9CAB-4F8C-8A68-FF7318ED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B9F11-E28C-495B-9B3E-3B4C495E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D14-0C70-4141-8524-DCF499B8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1CECD-ED6C-4538-BEE8-9DCAD0D5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9A412-83D7-4438-BEF6-289209DD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238A6-DE73-4E7C-9C0F-97BDDE99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36AD-F97D-4BCD-AA02-F0B4F4B7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5EBE1-32A8-49B1-B354-7EB435C4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E5863-86E9-4036-A563-FF6497E8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9D08E-7574-4DB6-B8C6-A1CF1C2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FBAA-DCF1-4C50-B9FC-0DF4DD1C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55E4C-0982-48B4-9102-74E8908D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BAB-C57A-4E02-A50F-0C537961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7CB-839D-4C88-8D6A-637DE647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7D8-50CE-4FBE-9133-E5DD9533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032-D721-4632-805F-5E006E9A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5DF-06D7-4B7B-9C0A-49DFC5F8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349A-99B2-49D1-88AE-683C41B31A3B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51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CF0C-A38E-4AB6-B1CE-EDF095337F96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98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9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6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47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0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2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3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7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8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9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5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8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09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16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9371-FE08-44DD-B1AC-AD18877ECDD3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63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4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3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4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0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1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3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374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381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149B-EA39-44ED-BFDF-759F060E69E9}" type="slidenum">
              <a:rPr b="0" lang="lt-LT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PSICHOLOGIJOS </a:t>
            </a:r>
            <a:r>
              <a:rPr b="0" lang="lt-LT" sz="4000" spc="-1" strike="noStrike">
                <a:solidFill>
                  <a:srgbClr val="330033"/>
                </a:solidFill>
                <a:latin typeface="Times New Roman"/>
              </a:rPr>
              <a:t>TYRIMŲ </a:t>
            </a: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METODAI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etap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klausimas,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Formuojama hipotez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rinkimo būdo planavimas – tyrimo technikos ir strategijos pasi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yrimo atlikima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duomenų surink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uomenų analiz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vadų dary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Tyrimo technikos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ebė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klausos (žodžiu, raš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TVEJO ANALIZĖ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no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r keli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vej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ri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šsam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ng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prantant retus atve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astas reprezentat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alizavimo sunku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lus darbui ir laik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jo šališ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STEBĖJ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rganizuotas, tikslingas tam tikrų reiškinių suvo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valu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etarpišku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 aplin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gali verbaliai išreikšti to, ko reik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ai tiriamieji nenori kalbėt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alimybė atsižvelgti į natūralų kontekst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Išorinio stebėjimo tipai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neįsikišant/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tūraliomis sąlygom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Arial"/>
              </a:rPr>
              <a:t>Stebėjimas įsikiša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Eksperimentinis/laboratorinis stebėjim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ruktūruotas/išprovokuota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tebėjimas dalyvauj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Klinikinis stebėj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APKLAUSOS ir jų form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truktūruotas/laisvas/pusiau struktūruotas pokalb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štu/žodž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viri/uždari klausimai, Likert’o tipo skal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Apklausų trūku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noras atsakyti, sąmoningai nuslėp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o pageidaujamumo reiškin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flektyvumo st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įtaka praeities įvykių atgaminim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ausimo nesuprat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stavimas 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LAUSIMY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STAVIMAS (nor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estų rūšy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Žini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Bendrųjų gebėjimų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Intelekto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Asmenybės test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Projekciniai testai (Rorschachas, HTP, kinetinis šeimos piešinys, papildymo metodikos, spalvų testai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JOS TYRIM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sichologijos ša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tyrimo srit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Baz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Taikomiej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Susiję su psichologijos instrument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ju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kintamųjų pobūd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ie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Kokybini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Bendrieji tyrimo tikslai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praš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aišk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mat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ntroliuo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er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Sąvokos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techn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 empirinių duomenų rinkimo būd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vz., testai, steb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ėjimas, apklau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r kt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rimo strate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 bendras tyrimo planas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aprašomoji, koreliacinė ir eksperimentinė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metod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konkreti empirinių duomenų rinkimo ir jų registravimo procedūra, tiksliai nurodanti visas tyrimo sąlygas ir atliekamų veiksmų eig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Rorschacho, HTP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1 ir kt.)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Tyrimo strategijo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om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Atvej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perimentin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ORELIAC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ustato ryšį tarp dviejų ar daugiau veiksni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urodo pri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ingu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eigiama koreliac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igiama koreliac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reliacijos koeficien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+/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EKSPERIMENTINĖ STRATEGIJA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epriklausomas kintam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iekiama nustatyti ir paaiškinti ryšio tarp nepriklausomo ir priklausomo kintamojo pobūd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Kas gali iškreipti rezultatus?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rankos kompon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bo efekt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ai fenomenas, kai žmogaus reakciją į gydymą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(poveikį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mia ne pats gydymas, o laukima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sperimentatoriaus šališkuma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Psichologinių tyrimų pvz:  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imbar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anfordo kal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ėjimo tyr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S.Milgramo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Konformiškumo ir paklusnumo tyrim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1:26:52Z</dcterms:created>
  <dc:creator>SPPS2</dc:creator>
  <dc:description/>
  <dc:language>en-US</dc:language>
  <cp:lastModifiedBy> </cp:lastModifiedBy>
  <dcterms:modified xsi:type="dcterms:W3CDTF">2007-08-29T12:38:26Z</dcterms:modified>
  <cp:revision>28</cp:revision>
  <dc:subject/>
  <dc:title>PSICHOLOGIJOS METODAI</dc:title>
</cp:coreProperties>
</file>